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2C0A-1593-41C3-9FD1-A552D7F06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E77-3C70-4545-B3A2-8586496E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707-0EF9-4055-8768-EDE3FE62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7FA-DD63-4BB6-8250-BA978C04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3C7B-4FB1-4511-AC6A-858CFF1F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2116-B74E-47B3-8699-89B2C543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F8A7-07FF-4446-BE6D-F4293370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2FD7-5E07-4E87-8038-07FFC1158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7D50-A33B-4231-A6F8-5F9C63AD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864D-6710-4924-8988-39CF3C4E6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F894-DD78-480E-A9FD-8AECCBF2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E31A-0385-4F60-9377-1246E7A4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84ED-CF5A-4D28-8236-2C0189B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5EC66-0D2C-46F2-B1EE-DAC466DF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8153-F801-4E5A-9D9C-BEFC0EFC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F385-59A2-4A96-BD19-A60066A0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B4B0-70FA-4BBB-BC5E-7167AA9D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75C2-7517-4911-91D7-E26B4916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C52D-BC55-4AD2-87C7-367912A97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FC1B-5822-4F42-BCA3-88B94D9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B7F-5F51-4D60-B54F-3A9F84CE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AA7F-F46F-4A8F-8E24-8058D0EC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D7B-D1E4-44B5-B89C-90BBC504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7719-A9FB-45D1-A571-6E57423E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718E-3D98-4128-877B-2D874FA1CCA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CB12-7B83-4191-83F7-3CC6FE2915E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alifetimeofcolor.com/study/images/light_dark_shifts.gif" TargetMode="External"/><Relationship Id="rId2" Type="http://schemas.openxmlformats.org/officeDocument/2006/relationships/hyperlink" Target="http://www.alifetimeofcolor.com/study/images/after_image.gif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Comic Sans MS"/>
              </a:rPr>
              <a:t>Colour</a:t>
            </a:r>
            <a:endParaRPr b="0" lang="en-US" sz="8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2788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In the Elementary Classro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By: Susan, Lisa, Karrie, Nadine,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rah, Catherine, and Marc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7621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Greg Percy’s Song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http://cdbaby.com/cd/gregperc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703dff"/>
                </a:solidFill>
                <a:uFillTx/>
                <a:latin typeface="Comic Sans MS"/>
              </a:rPr>
              <a:t>Crayola Websi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ts of Lesson Plans, ideas, and resources for Elementary Teacher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b200"/>
                </a:solidFill>
                <a:latin typeface="Comic Sans MS"/>
              </a:rPr>
              <a:t>http://www.crayola.com/lesson-plans/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981080" y="2895480"/>
            <a:ext cx="6324840" cy="365148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hat is Colour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1066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ed when light strikes an object, and reflects back i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r eyes.  There are three properti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name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nsity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brightness or dull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The lightness or darkness of a colou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52480" y="3276720"/>
            <a:ext cx="6191280" cy="3316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imary &amp; Second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colours are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Secondary colours 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1800" spc="-1" strike="noStrike">
                <a:solidFill>
                  <a:srgbClr val="703dff"/>
                </a:solidFill>
                <a:latin typeface="Comic Sans MS"/>
              </a:rPr>
              <a:t> blu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18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18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lang="en-US" sz="18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y can not be created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They are produced by mix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mixing other colours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Two primary colours in equal portion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Greg Percy’s     Colour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2003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Terti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ations of primary and secondary colou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 tertiary colour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oran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orang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ellow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-green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lue violet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d-viol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495680" y="251460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19920" y="3886200"/>
            <a:ext cx="1876320" cy="2438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014560" cy="21049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ol &amp; Warm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480" y="9907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ol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00b200"/>
                </a:solidFill>
                <a:latin typeface="Comic Sans MS"/>
              </a:rPr>
              <a:t>Gree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703dff"/>
                </a:solidFill>
                <a:latin typeface="Comic Sans MS"/>
              </a:rPr>
              <a:t>B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990099"/>
                </a:solidFill>
                <a:latin typeface="Comic Sans MS"/>
              </a:rPr>
              <a:t>Viole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cool”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due to their resemblance of cool objects such as a damp forest or a lake.  These colours are said to calm and relax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arm Colou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– (Ex: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Red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b800"/>
                </a:solidFill>
                <a:latin typeface="Comic Sans MS"/>
              </a:rPr>
              <a:t>Orang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, &amp; </a:t>
            </a:r>
            <a:r>
              <a:rPr b="1" lang="en-US" sz="2000" spc="-1" strike="noStrike">
                <a:solidFill>
                  <a:srgbClr val="ffef66"/>
                </a:solidFill>
                <a:latin typeface="Comic Sans MS"/>
              </a:rPr>
              <a:t>Yellow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 Called 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ar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” due to their resemblance of warm objects such as the sun, or fire.  These colours are said to arouse or stimulate the vie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Not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996600"/>
                </a:solidFill>
                <a:latin typeface="Comic Sans MS"/>
              </a:rPr>
              <a:t>Neutral Color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or earth tones are not seen on most color wheels.  Black, grey, and whites are neutral.  Browns, beige, taupes, and tans are neutral to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6172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03dff"/>
                </a:solidFill>
                <a:latin typeface="Comic Sans MS"/>
              </a:rPr>
              <a:t>Claude Monet’s use of cool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62720" y="6234120"/>
            <a:ext cx="2819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Vincent Van Gogh’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b800"/>
                </a:solidFill>
                <a:latin typeface="Comic Sans MS"/>
              </a:rPr>
              <a:t>use of warm colou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495680"/>
            <a:ext cx="182880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do these pictures make you feel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ow can colour influence a view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8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ints and Shad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nt: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white (Also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a pastel colo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hade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mixture of a colour with black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white increases lightness, while mix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black reduces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ing with any neutral colo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ing black and white, reduc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rome or colourfulness, leav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ue unchange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1885680" cy="189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omplimentary Colou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ours that are opposit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another 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lour wheel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495680" y="2286000"/>
            <a:ext cx="3486240" cy="372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6934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ricks of </a:t>
            </a:r>
            <a:r>
              <a:rPr b="1" lang="en-US" sz="4000" spc="-1" strike="noStrike">
                <a:solidFill>
                  <a:srgbClr val="ffef66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ffb800"/>
                </a:solidFill>
                <a:latin typeface="Comic Sans MS"/>
              </a:rPr>
              <a:t>l</a:t>
            </a:r>
            <a:r>
              <a:rPr b="1" lang="en-US" sz="4000" spc="-1" strike="noStrike">
                <a:solidFill>
                  <a:srgbClr val="990099"/>
                </a:solidFill>
                <a:latin typeface="Comic Sans MS"/>
              </a:rPr>
              <a:t>o</a:t>
            </a:r>
            <a:r>
              <a:rPr b="1" lang="en-US" sz="4000" spc="-1" strike="noStrike">
                <a:solidFill>
                  <a:srgbClr val="00b200"/>
                </a:solidFill>
                <a:latin typeface="Comic Sans MS"/>
              </a:rPr>
              <a:t>u</a:t>
            </a:r>
            <a:r>
              <a:rPr b="1" lang="en-US" sz="4000" spc="-1" strike="noStrike">
                <a:solidFill>
                  <a:srgbClr val="a50d64"/>
                </a:solidFill>
                <a:latin typeface="Comic Sans MS"/>
              </a:rPr>
              <a:t>r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to try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with your Student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95480" y="16765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1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ach band of colour seems to shift from light t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.  But each band is actually a solid colour!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y? Colours seem to change when placed next to lighter o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rker colors because of the contrast.  See for yourself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Try this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dff"/>
                </a:solidFill>
                <a:uFillTx/>
                <a:latin typeface="Comic Sans MS"/>
              </a:rPr>
              <a:t>Exercise #2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tare at the black dot, for 15 seconds.  Once the yellow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ircles disappear you should see yellow where the white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aces used to be.  You may even see a faint violet image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is an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after imag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f the yellow circles.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Try it yourself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685800" y="1905120"/>
            <a:ext cx="198108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Let’s Be Creative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4000" cy="525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23:20:31Z</dcterms:created>
  <dc:creator>Marci</dc:creator>
  <dc:description/>
  <dc:language>en-US</dc:language>
  <cp:lastModifiedBy>STU</cp:lastModifiedBy>
  <dcterms:modified xsi:type="dcterms:W3CDTF">2008-06-03T14:53:29Z</dcterms:modified>
  <cp:revision>9</cp:revision>
  <dc:subject/>
  <dc:title>Colour</dc:title>
</cp:coreProperties>
</file>